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9DAA6-A437-4CD8-8792-09403711E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1E9EF-A0D9-4F69-9239-98B2BEE29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A03E8-4C40-43FF-A980-4A919A95B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13FB6-4352-43E3-A052-F4C950B17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62A04-1593-44ED-83E7-2D8162722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0B98E-DB16-4200-AED7-EFC0337CA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6B84E-3A48-441E-BDAA-7A72F371C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4F902-BD31-4C11-8DDC-2091B19AD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CD69E-809A-420E-8E71-5C4C951D6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74786-8BE8-4B51-95EE-8B5377169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9DBF4-DCAF-4B75-867E-9B5FF07CA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8958B-712E-4E13-8658-3BFBE6A80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841EE-6FF7-46EB-8F54-4D47920BE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30834-E644-42DB-BE33-5B15B5CA9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6C044-9056-41F1-AA58-5A5E59A2C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CEA7A-7645-45E3-8EFB-06AEB727B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8C6A7-07D3-4DF8-9168-C3B524410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73FEE-8210-4570-8D08-9364CD7D5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36F36-A492-40A8-8AAA-79EFA9659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BD949-4EC6-4B38-9FEC-F07CDC4B9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F4D56-EFE5-42B8-94F5-8514E233F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5F459-CA01-4387-9EF8-DF52E72DB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0BF10-2313-4705-9A2E-875F07BFA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0F80D-C70A-4759-AFF0-79DA5FEE3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0ECAA-637B-4E47-A530-DB0F30AE49F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56EBC-DC6C-411B-BE98-E7F48E5B0BF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Opera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s of AS_Path and Next_Ho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_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ables routing poli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 a particular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ua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umber of AS cross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_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 few routers implement BG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ponsible for informing outside routers of routes to other networks in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ification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head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entication and synt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option not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acceptable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validity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ld time exp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is cl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close a connection when there is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Routing Information Exchan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AS, router builds topology picture using I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issues Update message to other routers outside AS using B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se routers exchange info with other routers in othe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then decide best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GP of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ced Routing Information Protocol (R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State 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router keeps list of state of local links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s update state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traffic as messages are small and not sent oft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23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computed on least cost based on user cost 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 stored as directed grap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tices 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ph 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two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router to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mple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801"/>
          <a:stretch/>
        </p:blipFill>
        <p:spPr>
          <a:xfrm>
            <a:off x="3414600" y="0"/>
            <a:ext cx="5729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ph of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3445" t="0" r="2645" b="8801"/>
          <a:stretch/>
        </p:blipFill>
        <p:spPr>
          <a:xfrm>
            <a:off x="3611520" y="0"/>
            <a:ext cx="5532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jkstra’s algorithm (Appendix 10A) used to find least cost path to all othe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op used in rout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s Services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traffic demands require variety of quality of servi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hone, multimedia,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functionality required in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means of requesting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63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pe with wide changes in delay and/o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TP sensitive to through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-Mail  in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Management sensitive to delay in times of heavy conges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b 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easily adapt to vari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out topology and delays in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make routing decisions based on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Inelastic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preferential treatment for certain types o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elastic traffic to be supported a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Approa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l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dis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each packet with a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poli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25828"/>
          <a:stretch/>
        </p:blipFill>
        <p:spPr>
          <a:xfrm>
            <a:off x="457200" y="1371600"/>
            <a:ext cx="8077320" cy="41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Traffic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eplenishment rat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ally sustainable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cket siz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unt that data rate can exceed R for shor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time perio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mount of data sent can not excee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T + 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0730"/>
          <a:stretch/>
        </p:blipFill>
        <p:spPr>
          <a:xfrm>
            <a:off x="1523880" y="1339920"/>
            <a:ext cx="594360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queuing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play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l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es behavior to best efforts on unload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fic 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high delivery su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ing Discip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ally FI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al treatment for high priority flow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packet can hold up smaller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edy connection can crowd out less greedy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 queu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maintained at each output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placed in queue for its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nd robin servi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kip empty que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have weighted fair queu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FO and Fair Que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32859"/>
          <a:stretch/>
        </p:blipFill>
        <p:spPr>
          <a:xfrm>
            <a:off x="457200" y="2125800"/>
            <a:ext cx="815328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Reservation: RSV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pplications can reserve resources in routers to meet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outer can not meet request, application infor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 is more dem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re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members of group may not require delivery from particular source over give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election of one from a number of “channels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group members may only be able to handle a portion of th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ft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state info in router that expires unless refres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s must periodically renew requests durin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ReSerVation Protocol (RSV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20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nomous Systems (AS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of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routers and networks managed by signle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nnec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at least one route between any pair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Go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for receivers to make 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multicast group membersh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resource requirements such that aggregate resources reflect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able receivers to select one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rotocol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nd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d 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soft state in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different reservation sty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arent operation through non-RSVP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Pv4 and IP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low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low identified by its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descript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ervation request issued by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de up of flowspec and filtersp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spec gives required Q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terspec defines set of packets for which reservation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eatment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6681"/>
          <a:stretch/>
        </p:blipFill>
        <p:spPr>
          <a:xfrm>
            <a:off x="457200" y="1795320"/>
            <a:ext cx="815328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32227"/>
          <a:stretch/>
        </p:blipFill>
        <p:spPr>
          <a:xfrm>
            <a:off x="380880" y="1714680"/>
            <a:ext cx="8305920" cy="29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te at multicast recei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e upstream through distribution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e soft states within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ch sending host enabling it to set up traffic control for first h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upstream routing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From Host Perspecti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joins multicast group (IG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tential sender issues Pa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message identifying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reverse path info and may start sending Resv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 messages propagate through internet and is delivered to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tarts transmitt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tarts receiv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ted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simple, easy to implement, low overhead tool to support range of network services differentiated on basis of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Packets labeled for differing QoS using existing IPv4 Type of Service or IPv6 Traffic cal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level agreement established between provider and customer prior to use of 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t in aggreg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scaling to larger networks and lo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lemented by queuing and forwarding based on DS oct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state info on packet flows store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d within DS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guous portion of internet over which consistent set of DS policies are adminis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nder control of on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by service level agreements (SL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ed service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cted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 prob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t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raints on ingress and egress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ro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ken bucket parame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position of traffic in excess of profi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ior Router Protocol (IR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sses routing information between routers within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ore than one AS i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s and tables may differ between different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need some info about networks outside thei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exterior router protocol (ER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RP needs detailed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P supports summary information on reach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A - low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B - low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C - 90% of traffic &lt; 50ms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D - 95% in profile traffic deliv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E - allotted twice bandwidth of level 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with drop precedence X higher probability of delivery than that of 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Code Po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ftmost 6 bit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pools of code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x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 as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0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but may be allocated for standards in fu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Precedence Fied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Domai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3367"/>
          <a:stretch/>
        </p:blipFill>
        <p:spPr>
          <a:xfrm>
            <a:off x="533520" y="1592280"/>
            <a:ext cx="80010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Configuration and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domain, interpretation of DS code points is unifo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in domain are boundary nodes or interi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ditioning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rk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Traffic Condition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35138"/>
          <a:stretch/>
        </p:blipFill>
        <p:spPr>
          <a:xfrm>
            <a:off x="380880" y="2362320"/>
            <a:ext cx="807732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 identified 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Internetworking with TCP/IP volume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of IRP and ER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8101"/>
          <a:stretch/>
        </p:blipFill>
        <p:spPr>
          <a:xfrm>
            <a:off x="1066680" y="1447920"/>
            <a:ext cx="658188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order Gateway Protocol (BG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se with TCP/IP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ferred EGP of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sent over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acquis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6622"/>
          <a:stretch/>
        </p:blipFill>
        <p:spPr>
          <a:xfrm>
            <a:off x="4400640" y="0"/>
            <a:ext cx="4743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Proced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pen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roposed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lects minimum of its hold time and that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time between Keep alive and/or update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tell other routers that this router is still 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 about single routes through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routes being withdra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ath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rigin (IGP or EG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_Path (list of AS travers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xt_hop (IP address of boarder rout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_Exit_Disc (Info about routers internal to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cal_pref (Inform other routers within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omic_Aggregate, Aggregator (Uses address tree structure to reduce amount of info need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1T09:45:56Z</dcterms:created>
  <dc:creator>Adrian &amp; Wendy</dc:creator>
  <dc:description/>
  <dc:language>en-US</dc:language>
  <cp:lastModifiedBy>Adrian &amp; Wendy</cp:lastModifiedBy>
  <dcterms:modified xsi:type="dcterms:W3CDTF">1999-11-02T08:52:14Z</dcterms:modified>
  <cp:revision>49</cp:revision>
  <dc:subject/>
  <dc:title>William Stallings Data and Computer Communications</dc:title>
</cp:coreProperties>
</file>